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AB9C42-DA19-47B7-97B9-7472DBE4F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043B2-D5CF-4812-B758-9B7D9B816A3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08120" indent="-34308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Arial"/>
              </a:rPr>
              <a:t>Toksin se vezuje za glikoprotein na površini ćelije domaćina i inhibira sintezu proteina inhibišući aktivnost 60S subjedinice na ribozomima, što dovodi do smrti ćelij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77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70FB2F-A16A-463D-9E8A-F1351F831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nvazizivni su najčesći uzrocnici akutne dijareje. ETEC = enterotoksicna E.coli – najcesci bakterijski izazivac dijareje u zemljama u razvoju, kao i putnicke dijare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io cholerae = gram negativna fakultativno anaerobna bakterija, infekcije najcesce unosenjem kontaminirane vode,  ribe, skolj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05C342-F21B-4EEA-B7D3-8078B2D3B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7924EF-B7AC-418D-9914-C78F4E7517A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08F8B0-5541-4BC6-9F72-9AFE325DFCC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8EC154-1A56-443B-B817-51501920F8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F9BF30-B840-43C2-883C-05D0A4F85E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CB9127-8072-4163-BD58-E17E16A1841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C809EA-86C2-488B-9DFD-811A34675AF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F97D6-E133-4312-A3DE-947F92DF36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B8A0-4142-4E9B-A300-C44CEDBB8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0CA2-BF19-4FE8-8E69-4EF323EFD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9829-F6E7-4DF1-9463-B4FA4E610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B59A-AFD4-4FAA-99DA-E19DB784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9C0EA-DE69-4F5E-B8C0-BF778527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A1E08-39D8-4145-BD34-46B1B6C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CA6EE-A741-4727-8C46-FBD66E4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035B0-9B7B-468D-9577-A3E0A85E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6936A-DDF3-4B73-BF90-9DBA0A2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33120-28EE-46BA-A842-ECA0ECAA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BA32B-2E21-49FF-B748-12013E9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A532-D271-4681-A305-A85449485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2D66-5280-4EE1-AEC9-A44E5BA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28988-EBD7-401E-A718-146A4E7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F5B7-0385-4A65-B689-B02315F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7423-1516-4B69-A410-01F46561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A26C9-1A0C-4E0E-9C84-E1176B5D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D60A-899C-49ED-A298-04DEE0088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762D-74C1-4452-8C8F-F82B4EBA8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FFC1-C0E0-40C1-945F-36AAD307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BEFE-E310-4535-9739-0A4880204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A590-9BAC-4A03-A1FA-22EE64943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F0FE-FFA7-4DD1-A0AE-5D54B9DD5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6358-A875-45E7-9505-6D20DC666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20080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cc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0992-B461-4C00-9786-B754F60925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1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350-9F51-4E09-A33B-1C5E2A9E42D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CDF3-874D-416F-8257-5463BACCCC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hyperlink" Target="http://upload.wikimedia.org/wikipedia/commons/4/49/Nifuroxazide.svg" TargetMode="Externa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ЦИЈЕ И ИНТОКСИКАЦИЈЕ ДИГЕСТИВН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Факултет медицинских наука Крагујева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тедра за инфектив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016E-DEE2-491C-A240-0422E134C94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идемиолошке карактеристи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360" y="1428840"/>
            <a:ext cx="75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ома чест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Чешће у земљама са топлом климом (тропи и субтропи) него у земљама умереног климатског пој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Знатно чешће у срединама са ниским нивоом економске развијености и хигијенског стандар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У овим срединама чешће код мале деце и у топло доба године (изузетак: Yersinia enterocolitica и Rotaviru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Извор инфекције оболеле особе и клицоноше, животиње и намирнице жив.порекла (јерсиниоза, камплобактериоза, сламонел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Фекоорални пут преноса (контакт, вода, храна, мув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0A9-8090-40CE-B3A9-0F554A60EA9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Патогенеза цревних инфекција и интоксикациј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1. Степен инвазивности микрооргани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Не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aureus, Bacilus cereus, Clostridium perfrigens, Vibrio parhaemolyticus, Vibrio cholerae, E.coli, virusi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вазилажење механизама имунске одбране (пре свега неспецифичн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теденције уласка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Без оштећења епителних ћелија (или минимално оштећење-скраћење микровила, без њиховог убијањ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луче ентеротоксине-поремећај транспорта електролита и в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E4A6-5307-4EC1-917F-A52F0DC6004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5520" y="260280"/>
            <a:ext cx="860436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25520" y="2830680"/>
            <a:ext cx="8604360" cy="2901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80880" y="55198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NEINVAZIVN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ET E.Coli , V.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koji stimulišu lučenje adenil-ciklaza→ propustljivost crevnog epitela,sekrecija  vode i elektrolite u lumen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→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česte, obilne vodenaste stolice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908000" y="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Patogeneza akutne bakt.dijareje uzrokovane NE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500040"/>
            <a:ext cx="7896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  <a:ea typeface="Calibri"/>
              </a:rPr>
              <a:t>Инвазивни микроорганизми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Shigell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, n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n-typhus salmonella, дијарогена Esherichia coli (EPEC, EIEC, EHEC, EAgEC, DAEC), Yersinia enterocolitica, Campylobacter jejuni/col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Везивање за сопецифичне рецепт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ирање у епит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лобађање ендо- или/и егзотокс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окретање запаљенског одгов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падање епит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еки узрочници продиру кроз епител у субепителни простор (даље размножавањ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лимфоток и регионалне (мезентеријалне) лимфне чвор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дор у крвоток (бактеријемија) са насељавањем других органа (јетра, мозак, плућа и ендокар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Сеп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76F8-6A83-4360-9232-5462B2C587A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8080" cy="587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28600" y="5629320"/>
            <a:ext cx="82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INVAZIVNE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: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Salmonella, Shigella, Campilobacter,Yersinia, EP</a:t>
            </a:r>
            <a:r>
              <a:rPr b="1" lang="sr-Latn-C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E.coli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Prodiraju u  mukozne ćelij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razmnožavaju se. Kad se raspadnu, oslobađaju se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endotoksin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(lipopolisaharid sa pirogen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svojstvima, PG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), …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ostećenje epitela, </a:t>
            </a:r>
            <a:r>
              <a:rPr b="1" lang="sr-Latn-C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nekroza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i deskvamacija ćelije (feces sadrži epitel, Le, Er,slu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590480" y="-54000"/>
            <a:ext cx="59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Patogeneza akutne bakt.dijareje uzrokova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  <a:ea typeface="Arial"/>
              </a:rPr>
              <a:t>INVAZIVNIM uzročnic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016080" y="1335240"/>
            <a:ext cx="309564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4" name="Text Box 6"/>
          <p:cNvSpPr/>
          <p:nvPr/>
        </p:nvSpPr>
        <p:spPr>
          <a:xfrm>
            <a:off x="1066680" y="85680"/>
            <a:ext cx="663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KUTNA INFEKTIVNA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patogenez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95880" y="1523880"/>
            <a:ext cx="27352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NVAZIV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almonella, Shigella, Campilobacter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rsini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a, 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 E.co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rodiru u mukozne ćelije, razmnožavaju se.                   Kad se raspadnu, oslobađaju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dotoksi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štećenje epitela,  nekroze  i deskvamacij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3244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pitel, Er, Le, slu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1520" y="1989000"/>
            <a:ext cx="28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azmnožavaju se u lumenu creva,na epitelu, luč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otoksin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koji stimuli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š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sintezu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adenil-ciklaz</a:t>
            </a:r>
            <a:r>
              <a:rPr b="0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ekrecija  vode i elektrolite u lumenu 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česte, obilne vodenaste stol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763640" y="357336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7429680" y="4286160"/>
            <a:ext cx="0" cy="285840"/>
          </a:xfrm>
          <a:prstGeom prst="line">
            <a:avLst/>
          </a:prstGeom>
          <a:ln cap="sq"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6324480" y="1371600"/>
            <a:ext cx="2743200" cy="1625760"/>
          </a:xfrm>
          <a:prstGeom prst="rect">
            <a:avLst/>
          </a:prstGeom>
          <a:noFill/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571760" y="4071960"/>
            <a:ext cx="0" cy="28728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38240" y="1400040"/>
            <a:ext cx="2735280" cy="1366920"/>
          </a:xfrm>
          <a:prstGeom prst="rect">
            <a:avLst/>
          </a:prstGeom>
          <a:solidFill>
            <a:srgbClr val="c00000"/>
          </a:solidFill>
          <a:ln cap="sq"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NEINVAZIVNI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T E.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li, V</a:t>
            </a:r>
            <a:r>
              <a:rPr b="1" lang="sr-Latn-CS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holer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2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066320" y="999720"/>
            <a:ext cx="754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ми настанка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мањење апсорпцијске површине (скраћење микров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осмотске дијаре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секреција осмотски активних супстанци у цревни лумен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a, 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уношење сложених маркомолекула-угљених хидрата (лактоза) и белан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ламацијски пролив (простгландин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FB0-EDD5-4CD0-BAE5-439EE6FC952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Клиничка сли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(није обавеза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оминантни клинички симптом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лив-две или више столица ненормалне конзистенције (воденасте или ретко кашас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толица одрасле особе са волуменом&gt; 200г/дан-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ста пасажа течн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једна или више крваво-слузавих сто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Екстраинтестиналне манифестације (шигелоза, јерсиниоза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47F8-038A-49F0-BA36-D36218BEA58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микроорганизама на клинички слик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28800" y="1357200"/>
          <a:ext cx="7543800" cy="4937400"/>
        </p:xfrm>
        <a:graphic>
          <a:graphicData uri="http://schemas.openxmlformats.org/drawingml/2006/table">
            <a:tbl>
              <a:tblPr/>
              <a:tblGrid>
                <a:gridCol w="2576520"/>
                <a:gridCol w="4967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нвазив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тицај на клинички сл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Кратка инкубација-неколико с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нагло, без продр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није најчешће повиш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краткотрајна (24-72 часа), најчешће пролази без специфичног лечења (изузимајући колер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организ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Дужа инкубациј-бар 24-48 час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почиње постепено-током 1 до 2 дана (малаксалост, безвољност, мијалгије, мучнина, губитак апети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Температура увек присутна, најчешће преко 38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Болест траје дуже, неопходно лече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-Склоност ка компликацијама-бактеријемији и сеп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1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375-B7E0-4F5F-BA9B-142354362B0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Сегментност лезија дигестивног тракт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27F7-D127-4D55-8423-07DC88D3B15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42920" y="857160"/>
          <a:ext cx="8858160" cy="5643720"/>
        </p:xfrm>
        <a:graphic>
          <a:graphicData uri="http://schemas.openxmlformats.org/drawingml/2006/table">
            <a:tbl>
              <a:tblPr/>
              <a:tblGrid>
                <a:gridCol w="2477880"/>
                <a:gridCol w="2251080"/>
                <a:gridCol w="4129200"/>
              </a:tblGrid>
              <a:tr h="892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дигестивног тра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ктеристике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1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ксим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ома волуминозне од почетка до кр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ен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јчешће безбој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се несварене хран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тални део танког цр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и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луминозне</a:t>
                      </a:r>
                      <a:br>
                        <a:rPr sz="1800"/>
                      </a:b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шасте конзист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е или браон бо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Јако заударај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лева полов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 стол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почетку волум., касније оскуд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вих неколико столица фекулентне, касније фекалије оскудније а повећава се количина слузи, јавља се сукрвица, тенезми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42560" y="1557360"/>
            <a:ext cx="7543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астроинтестиналне инфекције-на 2. месту по учесталости иза респираторних инфекција (у свету дневно оболи око 5 милиона љу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нижим” хигијенским стандардом-водећи узрок морбидитета и морталитета (нарочито деце млађе од 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У земљама са “вишим” хигијенским стандардом-чешће у дечијој популацији, међу сиромашнијим слојевима и имунокомпромитованим пацијентима (АИДС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5E7-5232-407B-9998-B500636F25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:\Users\Toshiba\Desktop\kako-zaustaviti-proliv.jpg"/>
          <p:cNvPicPr/>
          <p:nvPr/>
        </p:nvPicPr>
        <p:blipFill>
          <a:blip r:embed="rId4"/>
          <a:stretch/>
        </p:blipFill>
        <p:spPr>
          <a:xfrm>
            <a:off x="6791400" y="0"/>
            <a:ext cx="235260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Утицај инвазивности и сегментности лезија на клиничку слик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5840" y="1428840"/>
          <a:ext cx="8572320" cy="42069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000160"/>
                <a:gridCol w="2500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гмент ГИТ-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ст микроорганиз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 стол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сте патогених микроорганиза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удац, дуоденум, почетак јејуну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леум, посебно терминални иле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о-пенетра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нтерична тип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mon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mpilobacter jeju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бело црево (посебно лева половина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вазив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тич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igel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.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terohaemorrha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difficil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1EC-EFCB-4537-B1B1-4550EC4669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Oпшти принципи дијагностик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71F1-077B-46DB-A34C-4C46EF6CFA8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2960" y="121428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абораторијс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Хематолошке анализе (ККС, хематокри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иохемијске анализе (ЦРП, уреа, креатинин, АСТ, АЛТ, јоногр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4240" y="713880"/>
            <a:ext cx="78962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Бактериолошке претраге столице (копрокулту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инвазивне инфекције (Salmonellae, Campilobacter jejun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онављати (2-3 пута)-сензитивне у 70% (многе бакт. цревне инфекције, чак и до 50%, остају етиолошки недијагностикова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 започињања антибиотске 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 неке претраге столице неопходна консултација са микробиологом-специфични услови култивисања (вибриони, Е. Coli, C.jejuni et coli, Yersinia enterocolitica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Вирусолошке претраг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алаз вирусног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9A4-9DA0-4E74-A643-906034606AB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56800" y="785880"/>
            <a:ext cx="775332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умња на бактеријско тровање храном-преглед повраћеног садржаја и остатака инкриминисане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Паразитолошки преглед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`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рострука претрага густе столице на цисте протозоа и јаја хелми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Размаз столице, бојење и фиксација-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.histolytica, Criptosporid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великог узорка столице (en masse)-стронгилоидоза (мали број лаборатор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глед седимента дуоденалног садржаја-ламблијаза, стронгилоидоза, анкилостомијаза, јаја jeтриног мети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E86-EF4C-4F00-B1AB-9C65881063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ерологија-амебијаза (тежа цревна или екстраинтестинална-IHA, IF, ELISA), јерсиниоза, кампилобактериоза, клостридијална инфекција (токсин А и 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ндоскопија (клострдијална инфек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тивни РТГ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Ехо 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616-66E5-4D06-8C04-D9687F3B6AC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Терапија цревних инфекција и интоксикациј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560" y="1628280"/>
            <a:ext cx="7543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ета, ограничени унос х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сложени макромолекули (месо, млеко, пресно поврће и во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сти угљени хидрати (барени пиринач, шаргарепу, кромпир, плазма кекс, бели хлеб, бела кифла, кока-кола, сладак чај, слане грисине, посне слане супе, банане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азриво, са смиривањем дијареалног синдрома уводити јогурт, беланце јајета, барену пилетину, постан млади сир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7650-7725-4576-BA16-C772418C9B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7" descr="C:\Users\Toshiba\Desktop\преузимање.jpg"/>
          <p:cNvPicPr/>
          <p:nvPr/>
        </p:nvPicPr>
        <p:blipFill>
          <a:blip r:embed="rId5"/>
          <a:stretch/>
        </p:blipFill>
        <p:spPr>
          <a:xfrm>
            <a:off x="5796000" y="9810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2.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Цревна течност у односу на крвну плазму садржи сличну конц Na али 4-5 пута већу конц. К и двоструко већу конц. бикарбо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Тежак дијареални синдом: губитак воде, Na, Cl, бикарбоната (ацидоза) 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ероралн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Заслађен чај, слана посна супа, пиринчана посоље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Средства за пероралну рехидратацију (Nelit, Rehidromix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”Dacca” раствор: NaCl+NaHCO3+KCl 5:4:1 (kol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AEDB-BA5E-4855-9410-A1FDFD47E7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8571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а 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Физиолошки раствор (0,9% Na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укосалин (0,9% NaCl+2,5% G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Рингеров 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8,3% NaHCO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Интез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Довољ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ерење артеријског крвног притиска, пулса, диуре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1A1E-E0CF-4C6B-8AEC-762B4405A7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ntent Placeholder 5" descr="Шта лекова спречава путници Пролив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0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928440" y="1571400"/>
            <a:ext cx="771516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3. Медикаментоз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еме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(у повраћеном садржају нема остатака несварене хране-алиментарна интикс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алгетике и спазмолитике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давати никада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примарно хируршком обољењ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ожда се ради о хируршкој компликацији примарно инфективне болести органа за 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акутне инфекције ГИТ-а не изазивају тако јаке болов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дијароици (лоперамид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икада код инфективног пролив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4FF-B5C2-43FC-9E19-99A4ADA14A9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071360" y="928800"/>
            <a:ext cx="75438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иље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е смањење симптома и скраћење трајања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Бржи престанак исзлучивања узрочника (ерадикац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евенција 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це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ла деца (млађа од 3 месе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тарији пацијенти (&gt;65 годи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мунокомпромитован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вазив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D9D-46A0-4DE6-8E40-9FA5092EF28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ца узраста испод 5 година годишње оболе 5-6 пута од атака инфективног пролива (неразвијени краје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Сваке године дијареја је узрок смрти око 760.000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ијареја је узрок смрти око 1,7 милиона особа годиш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Главни узрок потхрањености деце млађе од 5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BAF0-0488-47B8-A1C0-A5DEBCD25FB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8DD6-67E6-4E73-90D0-C60EB0A924A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057400" y="914400"/>
            <a:ext cx="3581280" cy="2286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14840" y="317160"/>
            <a:ext cx="70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ffff66"/>
                </a:solidFill>
                <a:latin typeface="Tahoma"/>
              </a:rPr>
              <a:t>Антимикробни лекови који се користе у лечењу инфективних дијареја</a:t>
            </a:r>
            <a:r>
              <a:rPr b="0" i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77800" y="893880"/>
          <a:ext cx="8286840" cy="5324400"/>
        </p:xfrm>
        <a:graphic>
          <a:graphicData uri="http://schemas.openxmlformats.org/drawingml/2006/table">
            <a:tbl>
              <a:tblPr/>
              <a:tblGrid>
                <a:gridCol w="2589120"/>
                <a:gridCol w="2586240"/>
                <a:gridCol w="3111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лтернатив</a:t>
                      </a: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лек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игел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абл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sitetraciklin 2,5 g у току 12 са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лмонелозн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x2 табл. или Amoksicilin 3x500mg/дан и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фекције изазване EIE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2x2 табл. или Gentamicin 1mg/kgtt/8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Јерсинијски ентеро</a:t>
                      </a: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iprofloksacin 2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дана, ора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lkin 2x100mg, Gentamicin 1mg/kgtt/8 сати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или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Ceftriakson 1-2g на 12 с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oksiciklin 300mg једнократ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 или Ciprofloksacin 1g једнократно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. или Hloramfenikol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мпилобактер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ј</a:t>
                      </a:r>
                      <a:r>
                        <a:rPr b="1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ки ентер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itromicin 4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5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а или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zitromicin 1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3 дана, орал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Gentamicin 1mg/kgtt/8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ати  и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trimoksazol 2x2 табл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сеудомембранозни колит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nkomicin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абл. 4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5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etronidazol 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abl. </a:t>
                      </a: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x500mg/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н, </a:t>
                      </a:r>
                      <a:br>
                        <a:rPr sz="1400"/>
                      </a:br>
                      <a:r>
                        <a:rPr b="0" lang="sr-Latn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sr-C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да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64A-9ACB-4290-BD7B-2AE816FFC99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868320" y="1164600"/>
            <a:ext cx="80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Антипараз</a:t>
            </a:r>
            <a:r>
              <a:rPr b="0" i="1" lang="sr-Latn-CS" sz="1800" spc="-1" strike="noStrike">
                <a:solidFill>
                  <a:srgbClr val="ffff66"/>
                </a:solidFill>
                <a:latin typeface="Tahoma"/>
              </a:rPr>
              <a:t>ит</a:t>
            </a:r>
            <a:r>
              <a:rPr b="0" i="1" lang="sr-CS" sz="1800" spc="-1" strike="noStrike">
                <a:solidFill>
                  <a:srgbClr val="ffff66"/>
                </a:solidFill>
                <a:latin typeface="Tahoma"/>
              </a:rPr>
              <a:t>ни лекови који се користе у лечењу инфективних дијаре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6000" y="2343240"/>
          <a:ext cx="7791480" cy="2425680"/>
        </p:xfrm>
        <a:graphic>
          <a:graphicData uri="http://schemas.openxmlformats.org/drawingml/2006/table">
            <a:tbl>
              <a:tblPr/>
              <a:tblGrid>
                <a:gridCol w="3451320"/>
                <a:gridCol w="4340160"/>
              </a:tblGrid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ол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 изб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мебијаза (амебни колити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75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+ Paromomicin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-10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амбли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ја</a:t>
                      </a: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алантидија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tronidazol 3x500mg/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 д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ронгилоидо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iabendaz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3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Цревни антисептици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ифуроксазид (Ентерофур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риват 5-нитрофу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еханизам деловања није у потпуности разјашњ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нтимикробнe и aнтипаразитарнe oсобине нифуроксазидa, вероватнo потичу oд нитрo-групe </a:t>
            </a:r>
            <a:r>
              <a:rPr b="0" lang="mk-MK" sz="2400" spc="-1" strike="noStrike">
                <a:solidFill>
                  <a:srgbClr val="ffffff"/>
                </a:solidFill>
                <a:latin typeface="Calibri"/>
                <a:ea typeface="Calibri"/>
              </a:rPr>
              <a:t>(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којa je jako eлектрон-ре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ерапија  нифураксозид-ом  се нe препоручуje дуже oд 7 дан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Kaпсуле сe нe препоручују деци млађoj oд  12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7E2-F1C2-41F2-B8B5-3BC5DBFC657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7"/>
          <a:stretch/>
        </p:blipFill>
        <p:spPr>
          <a:xfrm>
            <a:off x="5715000" y="71280"/>
            <a:ext cx="3840120" cy="2408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:Nifuroxazid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857160"/>
            <a:ext cx="297972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880" y="68040"/>
            <a:ext cx="561672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Антимикробни спекта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Rounded Rectangle 1"/>
          <p:cNvSpPr/>
          <p:nvPr/>
        </p:nvSpPr>
        <p:spPr>
          <a:xfrm>
            <a:off x="3124080" y="4038480"/>
            <a:ext cx="5181840" cy="1828800"/>
          </a:xfrm>
          <a:prstGeom prst="roundRect">
            <a:avLst>
              <a:gd name="adj" fmla="val 16667"/>
            </a:avLst>
          </a:prstGeom>
          <a:solidFill>
            <a:srgbClr val="fbfbfb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am </a:t>
            </a:r>
            <a:r>
              <a:rPr b="1" lang="sr-R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позитивне бактерије</a:t>
            </a:r>
            <a:r>
              <a:rPr b="1" lang="mk-MK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reptococcus py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0253f"/>
                </a:solidFill>
                <a:latin typeface="Comic Sans MS"/>
                <a:ea typeface="Arial"/>
              </a:rPr>
              <a:t>Staphylococcus pyog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ounded Rectangle 2"/>
          <p:cNvSpPr/>
          <p:nvPr/>
        </p:nvSpPr>
        <p:spPr>
          <a:xfrm>
            <a:off x="762120" y="1219320"/>
            <a:ext cx="5410080" cy="2361960"/>
          </a:xfrm>
          <a:prstGeom prst="roundRect">
            <a:avLst>
              <a:gd name="adj" fmla="val 16667"/>
            </a:avLst>
          </a:prstGeom>
          <a:solidFill>
            <a:srgbClr val="757575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Gr</a:t>
            </a:r>
            <a:r>
              <a:rPr b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am</a:t>
            </a:r>
            <a:r>
              <a:rPr b="1" lang="mk-MK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1" lang="sr-R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негативне бак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scherichia 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almon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Shigella</a:t>
            </a:r>
            <a:r>
              <a:rPr b="0" i="1" lang="sr-Latn-CS" sz="2800" spc="-1" strike="noStrike">
                <a:solidFill>
                  <a:srgbClr val="000066"/>
                </a:solidFill>
                <a:latin typeface="Comic Sans MS"/>
                <a:ea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972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микроорганизми који дати у одређеној дози, обезбеђују здравствену бенефит домаћину (СЗ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ебиотиц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несварљиве супстанце (углавном олигосахариди) које стимулишу раст и активност пробиотика (углавном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a), те са њима имају синергистички учинак. Најпознатији је инулин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-Пробиотичке врсте компетитивно инхибирају стварање токсичних супстанција и раст мање пожељних врста, такмичећи се за простор и хра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11C-BB25-4DEC-90E2-D0BEF7F7FFC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7" descr="C:\Users\Toshiba\Desktop\probiotici-e-prebiotici.jpg"/>
          <p:cNvPicPr/>
          <p:nvPr/>
        </p:nvPicPr>
        <p:blipFill>
          <a:blip r:embed="rId3"/>
          <a:stretch/>
        </p:blipFill>
        <p:spPr>
          <a:xfrm>
            <a:off x="1547640" y="0"/>
            <a:ext cx="60487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56800" y="333000"/>
            <a:ext cx="77533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садашња истраживања указују да пробиотици не могу заменити уништену нормалну цревну флору, међутим као привремене колоније могу овављати исте функције као природна флора, дајући јој времена да се опора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чке врсте се потом убрзано замењују нормалном цревном фл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јчешће коришћени пробиотици су различите врсте рода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Bifidobacterium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дебелог црева, изоловано 30 врста) и 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actobacillu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 (нормални становници црева и вагине, изоловано 56 врста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ifidum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bre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infant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Bifidobacterium longu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acid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case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стале врсте: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coccus, Saccharomyc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(probiotički kvasac), 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Enterococcus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Јогурт-бактеријe, aли без прибиотичког ефек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Lactobacillus bulgaric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Streptococcus thermophil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F439-CB6A-48B3-BE92-919D0A43D44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66320" y="785880"/>
            <a:ext cx="75438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ћина пробиотских препарата садржи 1.000.000.000 бактерија на грам или милили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Обично је препоручена доза: једна капсула 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Много је важнији квалитет бактерија у препарату, јер оне морају да преживе деловање желудачне и жучних киселина, као и алкални садржај у дуоденуму, како би стигле до црева и биле делотвор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Пробиотике је потребно узимати најмање 5 пута недељно како би се одржао њихов утицај на цревну фл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7E3-62CE-4EBF-A313-DEEC36CF62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Calibri"/>
              </a:rPr>
              <a:t>НЕИНВАЗИВНЕ ИНФЕКЦИЈЕ ДИГЕСТИВНОГ ТРАК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ОВАЊЕ ХРАНОМ (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Intoxicatio alimentaris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ношење хране или воде, контаминиране патогеним микроорганизмима или њиховим токс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ичком сликом доминирају гастроинтестинални симптоми и знаци (повраћање, мучнина, 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ђе, симптоми и знаци од стране гит блааги или одсутни а доминирају симптоми и знаци од стране других органских система (ЦНС-ботулиз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и број оболелих у свету-6.000.000 до 80.000.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ци: 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Staphylococcus aureus, Bacilus cereus, 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CD2-1078-4E86-BBF5-21BC6507E8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Стафилококно тровање 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гзотоксини Staph. Aureu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7 серолошких типов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афилококног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теини ма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лекулск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порни на дејство желудачног и цревних со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носе повишену температур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стају и пос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30mi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00</a:t>
            </a:r>
            <a:r>
              <a:rPr b="0" lang="sr-Latn-C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ичка обрада намирница не неутралише његову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C71-BAEA-420D-B469-4D4CDAE6EC4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140360" y="393372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л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деална подлога за рамножавање St.aureusa и продукцију егзотоксина-млеко, јаја, месо (млевено) тј. подлоге погате уг.хидратима и протеи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тровања-сладолед, колачи, млевено мес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-клицоноше или пацијенти са носилаштвом узрочника у носу или на ко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ично се ради о контаминацији већ припремљене хране (мада ни термичка обрада намирница не спречава појаву тровањ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EA6A-9495-4DDC-BEA8-DBC8F5214D2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2" descr="C:\Users\Toshiba\Desktop\373560.jpg"/>
          <p:cNvPicPr/>
          <p:nvPr/>
        </p:nvPicPr>
        <p:blipFill>
          <a:blip r:embed="rId7"/>
          <a:stretch/>
        </p:blipFill>
        <p:spPr>
          <a:xfrm>
            <a:off x="5916600" y="0"/>
            <a:ext cx="32274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320" y="500040"/>
            <a:ext cx="75438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24EE-25EA-487F-9D3A-081C5D90730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1071720"/>
          <a:ext cx="6096240" cy="5459400"/>
        </p:xfrm>
        <a:graphic>
          <a:graphicData uri="http://schemas.openxmlformats.org/drawingml/2006/table">
            <a:tbl>
              <a:tblPr/>
              <a:tblGrid>
                <a:gridCol w="1619280"/>
                <a:gridCol w="1571760"/>
                <a:gridCol w="1380960"/>
                <a:gridCol w="1524240"/>
              </a:tblGrid>
              <a:tr h="555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УРОЂ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СТЕЧЕН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не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имун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хуморал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елулар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Киселост жел.садрж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е ефекторске ћел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Антит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(Б-l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-лимфо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отили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Ц </a:t>
                      </a:r>
                      <a:r>
                        <a:rPr b="0" i="1" lang="sr-Latn-CS" sz="18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иркулишући ефекторски протеи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родукција слу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Цитоки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Панкреас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Запаљен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реа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Билијарна секр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Calibri"/>
                          <a:ea typeface="Calibri"/>
                        </a:rPr>
                        <a:t>Микрофл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ханизам дејства стаф. ентеротокс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родук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IL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имулација 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-a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ктивација центра за повраћање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стимулацијом симпатичких влакана n.vagus-а у горњим партијама дигестивног тракта</a:t>
            </a:r>
            <a:r>
              <a:rPr b="0" lang="sr-Latn-C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ки типови ентротоксина  блокирају ресорпцију електролита и воде из цревног лумена, узрокујући пролив (проли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72A0-5B7D-41D0-BEAE-31FB21402AC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71280" y="260280"/>
            <a:ext cx="75438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1-12 сати (најчешће до 6 часо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гли поче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ређе пролив, повишена телесна температура се по правилу не ј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олошка анк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абораторијски  налази (најчешће нормални, знаци дехидрат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икробиолошке претраг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етекција ентеротоксина у остацима инкриминисане хране и повраћеном садржају (ретко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BB3-7CE0-45A9-A256-7EE6961E2A4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имена антибиотика није индикова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2D3F-B1DB-440D-8F9B-F8E400AF53D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acilus ce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еробни, спорогени, Г+ бац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Земљиште, природне во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, сирове нами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дукује еметички и дијареални тип 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Еметички тип тровања (кувани пирина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раткотрајна инкубација (1-6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Упорно повраћање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2 до 10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Дијареални тип тровања (поврће, сосеви, пудин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Дужа инкубација (6-14 с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Обилне, водене столице, праћене грчевима у трбуху (ретко повраћа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Траје 16-48 час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C7C-146D-40FA-9B08-7B38D08A11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5" descr="Ð¡ÑÐ¾Ð´Ð½Ð° ÑÐ»Ð¸ÐºÐ°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CA4-4232-4771-B5CA-32FAD6B79A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3" descr="C:\Users\Toshiba\Desktop\Clostridium-perfringens-cells.jpg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1341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1115640" y="620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лигатни анаероб (може издржати дејство кисеоника и до 72 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рминално поставњене споре-отпорне на кување у кључалој води у трајању од 10  мину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сте великом брзином на 15-50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а тровања или епидемије (кантине у фабрикама и војсци, масовна окупљањ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ајчешће серотип А, ређе C и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Јесен или зимски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рана која је охлађена без наглог замрза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66320" y="333360"/>
            <a:ext cx="754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нтеротокс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телне ћелије танк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Ћелијска смр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интрацелуларних молекула у лумен црева (Na, Cl, протеини, 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8-24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одени проливи (2-4 столице/дне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рчевити боло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тко повраћање и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0C24-4ECF-4239-AD00-BD8285A276F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Vibrio parahaemolyth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алофили (висока концентарција соли)-конзумирање морских  животињ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нутар исте врсте могу да продукују различите ентеротоксине, цитотоксине и хемолизине-разноликост клиничке сл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зервоари: остриге, сардине, крабе, лигње, поврће контаминирано сланом морском водом, мор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: најчешће термички необрађена (али и обрађена) х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лавни проблем: недовољно брзо постигнуто замрз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и епи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8F0-1A28-4170-8E29-BBDC72718C3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6632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ксплозивни, водени проливи→предшокно стање Најчешћ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лови у трбуху, мучнина, повраћање, главобоља (код већ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хтавица и повишена температура (ређ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зентерични синдром са крваво-слузавим  столицама и лезијом слузнице дебелог црева веома рет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а анк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и физикални 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ентеротоксина из повраћеног садржаја, столице, остатака инкримисане хране (не ради с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531A-E4FA-4FA5-8C29-F8542494DA4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C:\Users\Toshiba\Desktop\cholera2.jpg"/>
          <p:cNvPicPr/>
          <p:nvPr/>
        </p:nvPicPr>
        <p:blipFill>
          <a:blip r:embed="rId1"/>
          <a:stretch/>
        </p:blipFill>
        <p:spPr>
          <a:xfrm>
            <a:off x="0" y="0"/>
            <a:ext cx="3348000" cy="2133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755280" y="260280"/>
            <a:ext cx="78548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представља најтежу секреторну дијареју, која се у најтежим облицима може испољити дехидратацијом, хиповолемијским шоком и смртним исхо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Vibrio cholerae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G-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кривљени бацил, покре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спороге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, једнополарна флаг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становници површинских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ста патогено за љ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580-BEFB-42EB-AAE4-CB7D9232A2B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2" descr="C:\Users\Toshiba\Desktop\bakt_1.jpg"/>
          <p:cNvPicPr/>
          <p:nvPr/>
        </p:nvPicPr>
        <p:blipFill>
          <a:blip r:embed="rId5"/>
          <a:stretch/>
        </p:blipFill>
        <p:spPr>
          <a:xfrm>
            <a:off x="6054840" y="0"/>
            <a:ext cx="308916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матски-О и флагеларни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носу на соматски антиген: серогрупа О1 и О139 (једини узрочници колер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бриони других серогрупа-узрокују колери слична обољења (проливи блажег интезитета, спорадичног каракте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ibrio cholerae O1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aw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Inab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Hikojima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соматском О антиген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ма биолошким особинама-два биотипа: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asica, El-Tor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(блажа клиничка 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алофилне бактерије-високе концентрације соли (полуслане воде ушћа великих р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9A3A-BA62-47E8-86EA-ECF1F895B6A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320" y="713880"/>
            <a:ext cx="7543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Имунски систем ГИ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фокално лимфно ткиво (крајници,Пајерове плоче, мезентеријалне лимф.жл.,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апендикс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- дифузна седишта-неорганизовани делови (ламина проприа и епит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AB1-2F63-49A6-ACCE-6466806E6D7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786040" y="60008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скључиво хума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порадично (ређе), епидемијски и пандемиј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ор инфекције-оболела особа или клицоноша (жучна кесиц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миирана вода, храна, контак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Фактори који фаворизују инфекцију (смањење желудачног ацидитета): гастритис, употреба антацида блокатори H2 рецептора, ресекција желу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 неендемична подручја колера се најчешће импортује као путнички проли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BF10-F3B2-4561-9ECE-D6F0589CB07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онизација танког црева и продукција ентеротоксина (везивањем помоћу пил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лера токсин: 2А и 5Б подједи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-подјединица→везивање токсина за ганглиозид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GM1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површини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 компонента: А1 и А2 подједи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1 подјединица-продире у ћелију и активира аденилат-цикл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 резултује продукцијом цикличног аденозин-монофосфата (цАМП)→блокада апсорпције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стимулација секреције хлорида и воде у лумен цре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925F-80F9-44AE-8910-E9D83E5BD50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а секреција изотоничне течности у лумен црева, која превазилази ресорптивни капацитет дебелог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е количине течности из васкуларног корита и екстрацелуларног простора, као и бикарбоната→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хиповолемијски шок и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руги, термолабилни токсин-повећана пермеабилност цревне слузниц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zonula occludens toxin)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оштећујући “тесне везе” епителних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до 3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сто асимптоматска или као баналн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B9C-EEB2-477C-A437-9A97B831E3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а 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ол у трбуху, гађење, малаксал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чне, фекулентне, смрдљиве 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јективно: лако дехидратисан пацијент, адинамичан, очуваног крвног прити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Губитак течности: 2-5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: т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Колерички гастроенте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е учестале, воденасте, обилне, пражњење безболно и експлози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олица-безбојна, личи на пиринчану воду, базне реакције, отужног мириса ( на ри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5915-5AF2-453F-A738-64F3A26CE45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течности: 8% телесне теж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јективно: изразито адинамичан, хипотензиван, олигур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Алгидни стадију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40-50 столица дневно (дневни губитак 15-20 литара воде тј. преко 10% телесне тежин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грчеви у мишићима, анурија, хипотен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ешка дехидратација, хиповолемијски шок, анурија,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Facies hipocratica”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силарна температура до 3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ектална до 40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тих “афоничан” глас-”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vox choleric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ахикардија, мукли тонови, убрзан, филиформан пулс, немерљив крвни притисак, увучен “чунаст” трб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1618-7363-4827-92AE-6546B893776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олошки подац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бораторијске 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ематолошке (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Hct↗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e↗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иохемијск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K↘, Na ↘, Cl ↘,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т.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доз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ренална азотемиј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пергликем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биолошка дијагно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ке сакупити што пре, у раној фази болести (пре примене антибиот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ор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а, повраћени садржај, брис ректума, контаминиран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C1FD-C803-4463-BCD6-DAC70DD36BC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ранспортне подлог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о није могуће брз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o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опремити материјал до лаборатор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: 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богаћена алкална пептонс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бкултивација на селективн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TCBS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крвни аг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↓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8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ипичне коло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ст аглутин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ивалент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O1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тисеру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еглед столице микроскопом у тамном пољу (покрети вибрио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рологија-од 7-10 дана (ограничени значај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D54-336E-426F-AE24-6B0BFB51E42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Зелен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parahaemolyticusa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жуте колоније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i="1" lang="sr-Latn-CS" sz="2800" spc="-1" strike="noStrike">
                <a:solidFill>
                  <a:srgbClr val="eaeaea"/>
                </a:solidFill>
                <a:latin typeface="Calibri"/>
              </a:rPr>
              <a:t>V.cholerae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 (TCBS </a:t>
            </a: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подлога</a:t>
            </a:r>
            <a:r>
              <a:rPr b="0" lang="sr-Latn-CS" sz="2800" spc="-1" strike="noStrike">
                <a:solidFill>
                  <a:srgbClr val="eaeaea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11480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r os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лакши облици дехидратације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4g NaCl+4g NaHCO3+1g KCl+20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лукозе+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1l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од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Интравенским путем-2 литра за 30 мин. код одрас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Најчешће се корис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Ringer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 лактат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HCO3  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aCl+Na-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лактат 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2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DACCA” : NaCl+NaHCO3+KCl  5:4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секундарна)-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doxycyclin 300 mg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bactrim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или еритромицин (деца)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iprofloksacin 1g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једнократ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C1C6-7B89-4190-BA94-24A38DB8A06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езбеђење здраве, пијаће во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илна диспозиција људских излучев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акцинација (путовање у ризична подруч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оматски антигени два најважнија серо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фикасност: 7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рајање заштите: 2-5 месе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942-CE68-45C8-AB46-13F10237252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360" y="356760"/>
            <a:ext cx="75438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Фокал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ајерове плоче се налазе у танком цреву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терминални илеум), величине су 1-3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састоје  се од Б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, Т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ly</a:t>
            </a:r>
            <a:r>
              <a:rPr b="0" i="1" lang="sr-R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астоцита, полиморфонуклеара и плазм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На површини П.плоча налазе се М ћелије, одговорне за презентацију А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Дифузно лимфно тк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нтраепителни леукоцити, леукоцити у ламини пропр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Луче интерлеукине 1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  <a:ea typeface="Calibri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, 1 β, 4, 5, 6; гама 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ЦД8 супресори (85%), ЦД4 помагачки (1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322-2A76-4FED-8A78-EAAC2D84B5F0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ећи део нормалне флоре 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одређеним условима изазивају 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словно патогене 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“o</a:t>
            </a:r>
            <a:r>
              <a:rPr b="0" lang="sr-R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портунисти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G-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ултативно анаеробни бац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јединачно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парови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правилн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у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имбрије или пил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ога у адхезиј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 стварају капсул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еки сојеви 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M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икрокапсул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6D6A-F474-4656-862E-A8CDC20BCC8F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71280" y="333360"/>
            <a:ext cx="7543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патоге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P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Calibri"/>
              </a:rPr>
              <a:t>Ентеротоксична</a:t>
            </a:r>
            <a:r>
              <a:rPr b="0" lang="sr-Latn-RS" sz="2400" spc="-1" strike="noStrike">
                <a:solidFill>
                  <a:srgbClr val="ff0000"/>
                </a:solidFill>
                <a:latin typeface="Calibri"/>
              </a:rPr>
              <a:t> (ET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инваз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I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хеморагич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H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грегативна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(EAg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адхерент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(EAdE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и узрочник путничког пролива у развијеним земљ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е дец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емљама у разво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ут пренос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фекал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-o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ктни пу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еца у болницам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таминирана хр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A2C-DE42-4AD2-BC89-F8CFBB29E4F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зивањ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ETEC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а специфичне рецептор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ревној слузниц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CFA I, II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егз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(e</a:t>
            </a:r>
            <a:r>
              <a:rPr b="0" lang="sr-R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нтеротоксин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л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Te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рмолабилни токси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LT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казује сличнос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рмак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имунолошку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а токсином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vibria choler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активира га температура о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60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FAF0-31F0-43D7-9B7F-8A60AC582DEA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4140360" y="1916280"/>
            <a:ext cx="485640" cy="576000"/>
          </a:xfrm>
          <a:prstGeom prst="downArrow">
            <a:avLst>
              <a:gd name="adj1" fmla="val 50000"/>
              <a:gd name="adj2" fmla="val 296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66320" y="764640"/>
            <a:ext cx="754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LT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е састоји од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-субјединице</a:t>
            </a:r>
            <a:r>
              <a:rPr b="0" lang="en-U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66ccff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binding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езивањ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ецифичне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ецепторе ентероц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англиозид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лаз токсина у ће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ccff"/>
                </a:solidFill>
                <a:latin typeface="Calibri"/>
              </a:rPr>
              <a:t>-субјединица</a:t>
            </a:r>
            <a:r>
              <a:rPr b="0" lang="sr-Latn-CS" sz="2400" spc="-1" strike="noStrike">
                <a:solidFill>
                  <a:srgbClr val="66ccff"/>
                </a:solidFill>
                <a:latin typeface="Calibri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Calibri"/>
              </a:rPr>
              <a:t>activat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тиван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лази у цитоплазму енте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имулација 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денилат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цикл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ећан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центр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c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злучивање воде и електролит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цревни лумен →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39C-BF05-42DB-955D-6C3B64D343E2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71280" y="475920"/>
            <a:ext cx="75438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абост, повишена 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офузан пролив, зелено-жуте боје, мирише на труле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а крви и гно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прокул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ентеротокс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Т-метод културе 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Т-оглед in v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оказивање фактора колонизације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емаглутинација</a:t>
            </a: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ерологија (реакција аглутинациј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CD8-0141-4B71-AAF6-868C900AA4C7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-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УСНИ ПРОЛИ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30-40% акутних инфективних пролива узроковано виру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акутни гастроентерити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лно се излучују столиц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огу се идентификовати путем електронске микроско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није специфична за поједине узроч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903-E212-46EA-8CF1-2F2AB7FD51C4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Рота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важнији узрочници тешких инфективних пролива код дец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eoviridae</a:t>
            </a:r>
            <a:r>
              <a:rPr b="0" i="1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 ЕМ облик точка (</a:t>
            </a:r>
            <a:r>
              <a:rPr b="0" i="1" lang="sr-Latn-RS" sz="2400" spc="-1" strike="noStrike">
                <a:solidFill>
                  <a:srgbClr val="ffffff"/>
                </a:solidFill>
                <a:latin typeface="Calibri"/>
              </a:rPr>
              <a:t>rota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ча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дам група (према протеинској структури); А, Б и Ц-патогене за ч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10 серотип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вуда у свету (неразвијене и развијене земљ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 пролива код 35-40% хоспитализован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одишње оболи 140 милиона деце, умре 1 мили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јчешће обољевају деца од 6 месеци до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81D-43D4-4776-A1C5-406F916F180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елики број инфекција протиче 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мерени климатски појас-чешће з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 у педијатријским болница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олицом се излучује велика количина вир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Вирус јако отпоран у спољашњој среди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Мала инфективна доза (10 вири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лучивање вируса столицом-непосредно пре појаве првих симптома до 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4CB9-77B8-457F-A9BE-138FA4B1541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42560" y="259920"/>
            <a:ext cx="75438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епителних ћелија цревних ре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убитак апсорптивне способности з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Na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ење четкастог покрова-губитак активности хидрол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ећана пропустљивост цревног зида за макромолекуле-алергијске реакције на 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 1-7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пролив (водена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хидратација, метаболичка аци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компромитовани-пролив дуготрајан и те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фицит лактазе- може трајати 14-21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B6B9-293B-4203-9310-13F19A82189D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дефицијентне особе-хронич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лектронска микроскопија-карактеристичан изглед то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олација 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еролошка детекција А антигена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 (одојчад не прекидају дојењ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2F4-1306-4BFE-837B-6404C15FF19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-214200"/>
            <a:ext cx="75438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Етиологиј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AFE-E1A5-4D5F-8575-9E024D2CE3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71720" y="500040"/>
          <a:ext cx="7543800" cy="593424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актер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n-typhus 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ијарогена </a:t>
                      </a: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sherichia coli (EPEC, ETEC, EIEC, EHEC, EAgEC, DA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mpylobacter jejuni/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Yersinia enterocoli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eromonas hydroph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lesiomonas shigelloi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ward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choler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phalococcus aureus-e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теротоксиг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ostridium perfrig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brio parahaemolyti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cilus cer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Аден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бично узрокују пролив код мале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зрокују око 10% инфективних пролива деце млађе од 2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Значајан број асимптоматских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Током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 (контакт, не храна-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роноштво до 14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олидан постинфекцијски имунит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36C-F5A1-45C7-9495-F76718F0BB0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лична ротавирусном гастроентеритису-блажа и дуже 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кубација: 3-10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олив ( и до 14 дана): водена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ишена температура, каша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хидратација (не као код ротавиру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ултивација вируса (не рутинск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D83-268C-4D85-9C90-0A1142043FAE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Калци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фекције присутне у читавом 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но детињ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главном асимптоматс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Епидемије-вртићи, старачки домови,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зависно од годишњег д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ала дец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благи гастроентеритис, фебрилност, респ. Симптоми (ређ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Одрасл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конзумација шкољки или пијење контаминиране воде-грчеви, повраћање, воденаст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D222-4972-413E-AC6C-6E3B5EA0058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6632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Calibri"/>
              </a:rPr>
              <a:t>Норвалк и њему сични 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арија деца, читаве 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а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рло контагиозан вирус, инфективна доза&lt;100 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пид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Оштећује проксимални део танког црева, скраћује рес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алапсорпција лактозе и м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89FF-F412-4594-A3B0-555169F4ACF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нкубација:1-2 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Грчеви, воденасте столице, повраћ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вишена температура, мијалгије, главобоља (1/2 оболели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Детекција вирусног Аг 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муноелектронска микроско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PCR 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у стол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669-11FE-4778-8244-3160CE09DFA3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66320" y="1052280"/>
            <a:ext cx="75438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Астровирус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Широм с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ла деца и старе 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Блажи, воденасти проливи (2-3 д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враћање, повишена температура, грчеви у 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ести код ХИВ+ и пацијената са трансплантира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јагноза-ИЕМ, детекција вирусног Аг, серологија, P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ронавируси, парвовирус, ентеровируси....?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1DF-B559-4A3F-841D-6C523BE0B0DB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66320" y="549000"/>
            <a:ext cx="7543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УТНИЧКИ ПРОЛИ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кутни дијареални синдром који се јавља у једне трећине путника током прве недеље путовања или непосредно по повратку к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актори који утичу на појав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Старосна доб (&lt;30 год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Хипо- или ахлорхид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Ранија појава пролива приликом путовањ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Чешћи при путовањима у тропске крајев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1DD-1221-4FCE-A4A5-C5092E5E88E1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тиологија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Ентеротоксична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Шигеле, салмонеле, кампилобактер, вибрио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Lambli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Entamoeba histolytica</a:t>
            </a: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Strongiloides sterc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Calibri"/>
              </a:rPr>
              <a:t>Cryptosporidium, Rotavirusi, Entero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исоко ризична подручја (20-50%): Јужна Америка, Африка, Средњи исток, 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средњег ризика (10-20%): јужна Европа, Медите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дручја ниског ризика (&lt;8%): северна Европа, Канада, САД, Аустралија, Нови Зел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967-A8B1-4649-AE42-34DE4EB110DC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Фекооралне 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онзумирање локалне хране (термички необрађено поврће, месо и морска храна), употреба леда, непастеризованог млека и неољуштеног во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Клиничка 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очиње најчешће 2-3 дана по повратку са пут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олив (2-3 столице/дневно), некада и преко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толице су обилне и водене, праћене експлозивним пражњењ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тходи краткотрајни бол у трбуху (грч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Клиничка слика може и да варира (зависно од узроч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08F-698E-4F45-A4AB-C82F778D3AC8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Терапиј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Симптоматс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Хигијенско-дијететски реж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Надокнада течности и елекрт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Антибиотска терапија (краткотрајна, 1-3 дана-бактрим, ципрофлоксац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Calibri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Избегавање сумњиве воде, хране и напит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Мере личне хигиј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Превентивна примена пробиотика, цревних антисептика и других антимикробних 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</a:rPr>
              <a:t>Вакцинација (евентуал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698-9306-4E08-ACFA-C45C93A69206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Calibri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Calibri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28800" y="142920"/>
          <a:ext cx="7543800" cy="626436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нтеровиру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walk-вир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ci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en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rovi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отоз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amoeba histoly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yptospori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spora bel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Г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љивиц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ndida sp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  <a:ea typeface="Calibri"/>
                        </a:rPr>
                        <a:t>араз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solidFill>
                      <a:srgbClr val="2929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lantidium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mblia inestina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chinela spiralis, Аscaris lumbricoides, Strongiloides stercoralis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62ff"/>
                      </a:solidFill>
                    </a:lnL>
                    <a:lnR w="4320">
                      <a:solidFill>
                        <a:srgbClr val="0062ff"/>
                      </a:solidFill>
                    </a:lnR>
                    <a:lnT w="4320">
                      <a:solidFill>
                        <a:srgbClr val="0062ff"/>
                      </a:solidFill>
                    </a:lnT>
                    <a:lnB w="4320">
                      <a:solidFill>
                        <a:srgbClr val="006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4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3A8-58A3-4DAA-BD92-3799D36094D9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B3C-F4F6-4B1A-ABA6-CB04F3164745}" type="slidenum">
              <a:rPr b="1" lang="en-US" sz="1600" spc="-1" strike="noStrike">
                <a:solidFill>
                  <a:srgbClr val="99cc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03400" y="5011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66"/>
                </a:solidFill>
                <a:latin typeface="Tahoma"/>
              </a:rPr>
              <a:t>Диференцијална дијагноза дијареалног синдрома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71720" y="1428840"/>
          <a:ext cx="7931160" cy="4968720"/>
        </p:xfrm>
        <a:graphic>
          <a:graphicData uri="http://schemas.openxmlformats.org/drawingml/2006/table">
            <a:tbl>
              <a:tblPr/>
              <a:tblGrid>
                <a:gridCol w="7931160"/>
              </a:tblGrid>
              <a:tr h="49942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е, вирусне, паразитарне, гљивичне инфекције цревне слуз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. Упална жаришта у близини црева (апендицитис, аднекситис, пијелонефритис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. Пролив као општи симптом у току генерализованих инфекц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. Друге болести дигестивних орг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. Пролив због хемијског деловања (лаксанси, лекови, отр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. Пролив код општих метаболичких поремећаја (уремија, дијабетес, хипертиреоза, Адисонова болест, пелагра и с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3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cc00"/>
                </a:solidFill>
                <a:latin typeface="Tahoma"/>
              </a:rPr>
              <a:t>Инфективне болести - Проф. др </a:t>
            </a:r>
            <a:r>
              <a:rPr b="0" i="1" lang="sr-RS" sz="1200" spc="-1" strike="noStrike">
                <a:solidFill>
                  <a:srgbClr val="99cc00"/>
                </a:solidFill>
                <a:latin typeface="Tahoma"/>
              </a:rPr>
              <a:t>Жељко Мијаилови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Dr med</cp:lastModifiedBy>
  <dcterms:modified xsi:type="dcterms:W3CDTF">2022-08-30T21:51:41Z</dcterms:modified>
  <cp:revision>469</cp:revision>
  <dc:subject/>
  <dc:title>Slide 1</dc:title>
</cp:coreProperties>
</file>